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2AEC5-A68C-43E1-962C-439038844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A8C0C-9267-44A0-9290-18FF6AFF3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E32F1-BF34-4D26-AE78-29DEF1BA4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6E7DD-D1E1-4DCA-831D-1C954998D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CF589-60C2-4F3C-AEED-489DB4D9C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49FB3-6C49-4377-828F-C591A4EAF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335CD-8617-4C0E-B18D-65721E259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502FC-CF6A-434B-93C9-C1C85AD7B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5062D-C157-411D-9792-B98E6E00D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FC82B-A246-4AE7-8A6D-511F8D8E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6E829-D4F3-430A-B700-B800CCAF3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6082-231B-477A-8FDB-A1DAC0638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4717-5F36-4A62-BA62-884D8B7E9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dbQYNywOA3k" TargetMode="External"/><Relationship Id="rId2" Type="http://schemas.openxmlformats.org/officeDocument/2006/relationships/hyperlink" Target="http://www.youtube.com/watch?v=dbQYNywOA3k" TargetMode="External"/><Relationship Id="rId3" Type="http://schemas.openxmlformats.org/officeDocument/2006/relationships/hyperlink" Target="http://www.youtube.com/watch?v=dbQYNywOA3k" TargetMode="External"/><Relationship Id="rId4" Type="http://schemas.openxmlformats.org/officeDocument/2006/relationships/hyperlink" Target="http://www.youtube.com/watch?v=dbQYNywOA3k" TargetMode="External"/><Relationship Id="rId5" Type="http://schemas.openxmlformats.org/officeDocument/2006/relationships/hyperlink" Target="http://www.youtube.com/watch?v=dbQYNywOA3k" TargetMode="External"/><Relationship Id="rId6" Type="http://schemas.openxmlformats.org/officeDocument/2006/relationships/hyperlink" Target="http://www.youtube.com/watch?v=dbQYNywOA3k"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 descr=""/>
          <p:cNvPicPr/>
          <p:nvPr/>
        </p:nvPicPr>
        <p:blipFill>
          <a:blip r:embed="rId1"/>
          <a:stretch/>
        </p:blipFill>
        <p:spPr>
          <a:xfrm>
            <a:off x="684360" y="2781360"/>
            <a:ext cx="2895480" cy="3714840"/>
          </a:xfrm>
          <a:prstGeom prst="rect">
            <a:avLst/>
          </a:prstGeom>
          <a:ln w="0">
            <a:noFill/>
          </a:ln>
        </p:spPr>
      </p:pic>
      <p:pic>
        <p:nvPicPr>
          <p:cNvPr id="43" name="" descr=""/>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AMAIER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Gabriel Erice, Unai Franco, Olatz Cadarso, Iñigo Osteikoetxea, Jon Gonzalez eta Raquel Val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AURKIBIDE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gati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tan aritzen di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ndorio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hitur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Nola hartzen ditugu</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7"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8" name="" descr=""/>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TAN ARITZEN DIRA</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ffffff"/>
                </a:solidFill>
                <a:latin typeface="Kristen ITC"/>
              </a:rPr>
              <a:t>Imigrante gehienak Espainiara etortzen dira lana bilatzeko. Inmigrante batzuk bere herrietanlan inportanteak zituzten, baina hemen Espainian lan kaskarrekin konformatu behar dira. G.K.E askok   inmigranteei laguntzen diete lana aurkitzen. Espainan lan egiten duten inmigrante gehienengoak, gizonak dira. Gutxiengoak, ordea, emakumeak di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     </a:t>
            </a:r>
            <a:endParaRPr b="0" lang="en-US" sz="2400" spc="-1" strike="noStrike">
              <a:solidFill>
                <a:srgbClr val="000000"/>
              </a:solidFill>
              <a:latin typeface="Arial"/>
            </a:endParaRPr>
          </a:p>
        </p:txBody>
      </p:sp>
      <p:pic>
        <p:nvPicPr>
          <p:cNvPr id="51" name="" descr=""/>
          <p:cNvPicPr/>
          <p:nvPr/>
        </p:nvPicPr>
        <p:blipFill>
          <a:blip r:embed="rId1"/>
          <a:stretch/>
        </p:blipFill>
        <p:spPr>
          <a:xfrm>
            <a:off x="3492360" y="386064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2" name=""/>
          <p:cNvSpPr/>
          <p:nvPr/>
        </p:nvSpPr>
        <p:spPr>
          <a:xfrm>
            <a:off x="1258920" y="1197000"/>
            <a:ext cx="6840360" cy="229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2627280" y="3500280"/>
            <a:ext cx="3816360" cy="26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Kristen ITC"/>
              </a:rPr>
              <a:t>Lehen aipatu dugun bezala inmigranteek, gehienbat, lan bila etortzen dira Espainiara diru premia daukatelako. Horregatik, eskulan, garbiketa-lanak etab. ontzat ezinhobea da. Hala ere, ez dute diru asko irabazten. Izan ere, askotan pertsona asko apartamentu txikietan bizi dira eta bizi-kalitate baxua dauk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6"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 Espainiak bere ongizatea neurri handian inmigrazioari zor d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Ondorio onuragarri horiek alde kaltegarria ere izan dezakete, baldin eta ez bagara gauza inmigranteen integrazioa hobetzek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8"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000" spc="-1" strike="noStrike">
                <a:solidFill>
                  <a:srgbClr val="000000"/>
                </a:solidFill>
                <a:latin typeface="Kristen ITC"/>
              </a:rPr>
              <a:t>Inmigranteak Espainiara etortzen direnean haien ohiturak mantentzen zailatzen dira, hau da, haien janaria, dantza, kultura… haien egunerokoan praktikatzen. Ohiturak mantentzeko haien familiekin geratzen dira urtero ospakizuneta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a:t>
            </a:r>
            <a:r>
              <a:rPr b="0" lang="es-ES" sz="2000" spc="-1" strike="noStrike" u="sng">
                <a:solidFill>
                  <a:srgbClr val="009999"/>
                </a:solidFill>
                <a:uFillTx/>
                <a:latin typeface="Arial"/>
                <a:hlinkClick r:id="rId6"/>
              </a:rPr>
              <a:t>dbQYNywOA3k</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7"/>
          <a:stretch/>
        </p:blipFill>
        <p:spPr>
          <a:xfrm>
            <a:off x="6156360" y="4076640"/>
            <a:ext cx="1857240" cy="24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61" name="PlaceHolder 2"/>
          <p:cNvSpPr>
            <a:spLocks noGrp="1"/>
          </p:cNvSpPr>
          <p:nvPr>
            <p:ph/>
          </p:nvPr>
        </p:nvSpPr>
        <p:spPr>
          <a:xfrm>
            <a:off x="468360" y="1916280"/>
            <a:ext cx="8229600" cy="4176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Kristen ITC"/>
              </a:rPr>
              <a:t>   </a:t>
            </a:r>
            <a:r>
              <a:rPr b="0" lang="eu-ES" sz="2000" spc="-1" strike="noStrike">
                <a:solidFill>
                  <a:srgbClr val="000000"/>
                </a:solidFill>
                <a:latin typeface="Kristen ITC"/>
              </a:rPr>
              <a:t>Ez da diskriminatu behar baizik eta justizia egin. XX mendean zehar eta, bereziki, gerra zibilean herrialde horiek Espainiako etorkin asko hartu zituzt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Horregatik, gaur egun, haiek etortzean guk ere harrera ona egitearen betebeharra daukagu</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Lortu behar dugu Hegoamerikako etorkinak hona etortzean gure gizartean integratz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31T12:48:32Z</dcterms:modified>
  <cp:revision>10</cp:revision>
  <dc:subject/>
  <dc:title>Diapositiva 1</dc:title>
</cp:coreProperties>
</file>